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3A7A-4B5E-450E-B018-D9097164D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1ED9-6A52-44CF-B988-DA3008530D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1A6F-70E8-4424-A153-6547447A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FF76-BC46-4A18-88CB-15811BF3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FD2B-47DB-4C25-B628-4401C315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057-62F9-4B84-9F81-4270946C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DE7-B92E-42E8-8C85-06C1F247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715-800E-4CF9-95C6-88B40C96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8574-3836-4048-80D6-9650E2BF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1116-FF5C-4E98-AD51-C849352D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11C7-1E1A-4EE9-BBB7-9C233F94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2E8D-7F39-4C6A-83A2-EC36E888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7789-D337-4371-ABD6-E9C6340F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4B63-CDC6-4C2F-996A-B9283FAF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DD53-5B46-4FDB-A309-1542AA67A5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Documents and Settings\Administrator\Local Settings\Temporary Internet Files\Content.IE5\2QEQ1ZX6\MCj04382510000[1].wmf"/>
          <p:cNvPicPr/>
          <p:nvPr/>
        </p:nvPicPr>
        <p:blipFill>
          <a:blip r:embed="rId2"/>
          <a:stretch/>
        </p:blipFill>
        <p:spPr>
          <a:xfrm>
            <a:off x="1554120" y="1295280"/>
            <a:ext cx="5859360" cy="3886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What Goes Up Must Come Dow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3124080"/>
            <a:ext cx="7391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A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Jester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Century Learning Experience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eresa Cannady, Kay Jones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Gladys Jones, Brenna Takat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Request for Feedba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ways to help students write a script for their video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help assessing students’ higher order thinking skil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371600" y="746280"/>
            <a:ext cx="6705720" cy="5203800"/>
          </a:xfrm>
          <a:prstGeom prst="rect">
            <a:avLst/>
          </a:prstGeom>
          <a:ln w="0">
            <a:noFill/>
          </a:ln>
        </p:spPr>
      </p:pic>
      <p:pic>
        <p:nvPicPr>
          <p:cNvPr id="71" name="MSSN00435A0000[1]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8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Jester"/>
              </a:rPr>
              <a:t>Weather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Jester"/>
              </a:rPr>
              <a:t>Unit Summar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Using prior knowledge of weather students will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ticipate in a weather web ques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gage in  interactive notebook activ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ory and post it on a blog or wik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 a weather instrumen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udent  video productio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Curriculum-Framing Ques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Essential Ques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y is change necessary?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Uni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the water cycle and weather related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es weather affect our everyday life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Conten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precipitatio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cribe the water cyc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are weather instruments used to measure and record weather data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y do we have storms and how are they creat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clouds and are they associated with the type of weather we hav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hat Goes Up Must Come Dow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eather Video Produ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roduction will help students develop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entury skills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rough the use of digital technology students will communicate their understanding  of weather by collaborating with their peers and producing a weather video. This will also enhance their creative writing and communication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C:\Documents and Settings\Administrator\Local Settings\Temporary Internet Files\Content.IE5\7QDTM1KA\MCj04315970000[1].png"/>
          <p:cNvPicPr/>
          <p:nvPr/>
        </p:nvPicPr>
        <p:blipFill>
          <a:blip r:embed="rId2"/>
          <a:stretch/>
        </p:blipFill>
        <p:spPr>
          <a:xfrm>
            <a:off x="7620120" y="457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Program Files\Microsoft Office\MEDIA\CAGCAT10\j0293828.wmf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522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urpose of the Assess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To gather information about what students already know, what they want to know and what they learned about weat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hat I want to Learn from my students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find out what they already know about how the water cycle and weather are related and how weather affects our everyday liv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con’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I have tried to promote higher order thinking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know if students can synthesize  the stages of the water cycle and  analyze its effect on weath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the assessment information helps me and my students plan for upcoming  activities in the uni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We will revisit this assessment throughout the unit for students to add their knowled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Our  Goals for the Cour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d ways to get students to apply their knowledge of weather in their everyday l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about the different kinds of technology  availab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are ideas with other teach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Student Go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7391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how meteorologists collect and apply their data to predict wea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become more independent learn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6:23:23Z</dcterms:created>
  <dc:creator> </dc:creator>
  <dc:description/>
  <dc:language>en-US</dc:language>
  <cp:lastModifiedBy>pcs</cp:lastModifiedBy>
  <dcterms:modified xsi:type="dcterms:W3CDTF">2009-05-28T16:46:45Z</dcterms:modified>
  <cp:revision>30</cp:revision>
  <dc:subject/>
  <dc:title>What Goes Up Must Come Down</dc:title>
</cp:coreProperties>
</file>